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CDE4-3D6E-498D-A3FB-F80E2B1D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58F0-01E3-4EB9-9B9A-565716E6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523-E437-47F8-8E87-0F1911BE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BBF-BFA3-45BA-A42A-EC923787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D133-A205-4BC8-9011-4F0F9D10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A4D5-1B58-4EC8-BB48-02488204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58F9-FE53-4D93-9FF1-0CA2F5E6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CAB1-8219-4D7E-AD3D-5F889CBB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C4E1-F7F3-4314-B3EC-0C3964F0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273F-0BED-4FE4-971C-96BEC21B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2F51-1DFF-44AF-9AAA-82F01B6B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86D-4E62-45FF-8F31-9999BC05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5A28-C66A-477A-AFE5-EC86EE05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1CA7-59FB-47D3-B0D3-A44D0A07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F0CC-3109-440B-A639-235F7BEE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17ED-260A-432F-8E6E-AF16CEF3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5D47-101B-467E-AEA2-77F55EA6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F84-A869-44AF-8BEB-1A9E858D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0C79-E35E-4682-80D6-36A109B8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324-7162-4328-8074-80C40C4A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AFA-42C6-438E-A768-2EE4A56A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0B51-2EBA-4A5E-8824-6F5589B2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19B-757C-48F5-8B4F-91367407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D152-14B1-4D4C-B67D-BA659B06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462A-1465-40CB-BEC7-15457986AF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0F50-C175-41D1-A507-BA80D27756D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s.zum.de/rmg/index.php/Neue_Oberstufe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ikis.zum.de/rmg/index.php/W-Seminar_Englisch_2009_2011" TargetMode="External"/><Relationship Id="rId2" Type="http://schemas.openxmlformats.org/officeDocument/2006/relationships/hyperlink" Target="http://wikis.zum.de/rmg/index.php/W-Seminar_Englisch_2009_2011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- Seminar „Kanada“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chuljahr 2010/1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wertu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minararbeit 3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äsentation 1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i 0 Punkten in einem Teil =&gt; keine Zulassung zum Abit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e steht für ZWEI Halbjahresleistun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x Seminararbeit+ 11/1+11/2+ P- Seminar (11/1+11/2) = 24 Punk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äsentation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E Schüler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müsse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wesend se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uer der Präsentation: ca. 15 Min. +         ca. 10 Min. Fra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m Tag der Präsentation darf der Referent keine Klausur hab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standteile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rtrag auf ENGLIS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werPoint Prä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standteile der Prä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rtrag: frei sprechen, Englis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rstellung der Themati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ilder, Grafiken: Veranschaulichu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aktion: Einbeziehung der Mitschül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l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wertet werden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ortra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hal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rach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ak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ichtige Informationen zur Seminararbei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3366"/>
                </a:solidFill>
                <a:uFillTx/>
                <a:latin typeface="Arial"/>
              </a:rPr>
              <a:t>Abgabe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: 09. November 2010 bis zur 2. Pause im Sekretari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Die Arbeit besteht a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Deckblatt der Schule </a:t>
            </a:r>
            <a:r>
              <a:rPr b="0" lang="de-DE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=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Deckblatt zum Thema der Arbei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Gliederung/ Inhaltsangabe „Table of Contents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Textteil (10-12 Seite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Bibliographie „Bibliography“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Anhang „Appendix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Persönliche Erklärung (Erscheint NICHT in Table of Contents, erhält aber eine separate Seit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ersönliche Erkläru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ch erkläre hiermit, dass ich die Seminararbeit ohne fremde Hilfe angefertigt und nur die im Literaturverzeichnis angeführten Quellen und Hilfsmittel benutzt hab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......................................, den .......................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Datum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……………………………………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                        Unterschrift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e Arbeit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rd farbig ausgedruckt (zumindest die Seiten mit farbigen Grafiken bzw. Bilder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sdruck auf hochwertigem Papier (mehr als 80m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e Arbeit ist gebunden (Spiralbindung ist möglich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e Arbeit hat einen festen Rückenband, an dem eine CD- ROM mit einer digitalen Kopie der Arbeit, Kopie der Websites befestigt i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2764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infügen von Bilder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5256000" cy="3502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6165720"/>
            <a:ext cx="51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3366"/>
                </a:solidFill>
                <a:uFillTx/>
                <a:latin typeface="Arial"/>
              </a:rPr>
              <a:t>Fig. 1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:   Parliament Building in Ottawa/ Ontar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8388360" y="1341000"/>
            <a:ext cx="1440" cy="2808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63640" y="189000"/>
            <a:ext cx="712944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3366"/>
                </a:solidFill>
                <a:uFillTx/>
                <a:latin typeface="Arial"/>
              </a:rPr>
              <a:t>Image Credits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 [Teil der Bibliographie!!!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p. 15  Fig. 1: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3366"/>
                </a:solidFill>
                <a:latin typeface="Arial"/>
              </a:rPr>
              <a:t>„Ottawa- Hauptstadt von Kanada.“ </a:t>
            </a:r>
            <a:r>
              <a:rPr b="0" i="1" lang="de-DE" sz="1200" spc="-1" strike="noStrike">
                <a:solidFill>
                  <a:srgbClr val="003366"/>
                </a:solidFill>
                <a:latin typeface="Arial"/>
              </a:rPr>
              <a:t>Kanada Reiseführer. Oct. 23, 2010. </a:t>
            </a:r>
            <a:r>
              <a:rPr b="0" i="1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de-DE" sz="1200" spc="-1" strike="noStrike">
                <a:solidFill>
                  <a:srgbClr val="003366"/>
                </a:solidFill>
                <a:latin typeface="Arial"/>
              </a:rPr>
              <a:t>&lt;http://www.kanada-informationen.de/staedte-in-kanada/ottawa-hauptstadt-</a:t>
            </a:r>
            <a:r>
              <a:rPr b="0" i="1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de-DE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de-DE" sz="1200" spc="-1" strike="noStrike">
                <a:solidFill>
                  <a:srgbClr val="003366"/>
                </a:solidFill>
                <a:latin typeface="Arial"/>
              </a:rPr>
              <a:t>kanada.html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414972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itier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Kapitel bezieht sich auf eine Quelle =&gt; Fußnote am Ende des Abschnitts (cp. 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Innerhalb eines solchen indirekten Zitats müssen direkte Zitate aus derselben Quelle mit einer EIGENEN Fußnote versehen werd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Im fortlaufenden Text soll auf Material im Anhang verwiesen werden =&gt; Fußnote (cp. Appendix p…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Überschrif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Innerhalb des fortlaufenden Textes MÜSSEN die im Table of Contents stehenden Überschriften nochmals erschein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Entsprechend der Ebene sollten Überschriften gleich dargestellt werd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1197000"/>
            <a:ext cx="76932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Terminplanung bis Februar 20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10. November 2010: Workshop „Presentation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17. November 2010: Buß- und Betta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24.11.2010- 19.01.2011 Präsentationen </a:t>
            </a:r>
            <a:r>
              <a:rPr b="0" lang="de-DE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iehe </a:t>
            </a:r>
            <a:r>
              <a:rPr b="0" lang="de-DE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RMGwik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Ausweichtermin im Krankheitsfall: 26.01. oder 02.02.20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rausgabe der Seminararbeit und Bekanntmachung der Noten (Seminararbeit und Präsentation) in der dritten Märzwoche beim Kurslei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ückgabe der Seminararbeiten durch die Schüler am 25.03.2011 im Sekretari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13:21:24Z</dcterms:created>
  <dc:creator>Sanne</dc:creator>
  <dc:description/>
  <dc:language>en-US</dc:language>
  <cp:lastModifiedBy>Sanne</cp:lastModifiedBy>
  <dcterms:modified xsi:type="dcterms:W3CDTF">2010-10-23T15:08:04Z</dcterms:modified>
  <cp:revision>17</cp:revision>
  <dc:subject/>
  <dc:title>W- Seminar „Kanada“</dc:title>
</cp:coreProperties>
</file>